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3D86-09D1-41E2-8A51-551A68FB7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6758-AFA4-4834-8601-D89398B18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31C0-7C82-49AC-977C-38E56DDD2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3EAB-DAE8-4C03-921D-3676AFCD8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CF299-FE1E-491B-8696-63F748BB3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28573-3386-4008-9207-54A0A1C24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FEFB7-B176-49A1-8B45-803E5A98E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076B5-DA29-4B07-AECD-7283742BC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07494-10C2-4F36-9BDC-B41A033CE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5795D-6322-446B-B98D-44AB350E4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0A13F-AEDE-4414-933A-59206E81A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7647-3B45-4F76-A39E-3963217F2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A2B44-C729-4086-A15D-7F168D4EB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AC189-09CE-4120-836D-ADEA5BC1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90AF4-4D45-456E-8D9D-53D9FCFE8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F6449-356A-41BE-8FE4-EC552669F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3522B-87F9-451C-8BE2-1B9684C2E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6791-294C-441D-99C4-86A90B05E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2189-0856-4DA0-BCF2-8139C70A1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F1D5-9B8C-47CC-A9DE-5851E6D34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788D-86ED-4366-A086-37F31AEFD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767A-EF1E-4168-9542-3E28B6F6D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8AB9-A7AD-43BC-91FA-29C86279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FB9E-09CA-4D18-801D-5A2BB30B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1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2" name="hokusai2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8471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5142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0958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63E81-D9C0-434D-B575-955E6BA155F0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45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46" name="hokusai2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1920" y="990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01956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3156C-3A93-47BB-83A7-FE81E5DA9CA1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484719"/>
              </a:buClr>
              <a:buFont typeface="Wingdings" charset="2"/>
              <a:buChar char="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www.zoloft.com/default.asp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75438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61c62"/>
                </a:solidFill>
                <a:latin typeface="Times New Roman"/>
              </a:rPr>
              <a:t>Mood Disorders</a:t>
            </a:r>
            <a:endParaRPr b="0" lang="en-US" sz="60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62120" y="9144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d2525"/>
                </a:solidFill>
                <a:latin typeface="Times New Roman"/>
              </a:rPr>
              <a:t>Depression &amp; Bipolar Disorder</a:t>
            </a:r>
            <a:endParaRPr b="0" i="1" lang="en-US" sz="4400" spc="-1" strike="noStrike">
              <a:solidFill>
                <a:srgbClr val="2d2525"/>
              </a:solidFill>
              <a:latin typeface="Times New Roman"/>
            </a:endParaRPr>
          </a:p>
        </p:txBody>
      </p:sp>
      <p:pic>
        <p:nvPicPr>
          <p:cNvPr id="90" name="posterboy-flesh" descr=""/>
          <p:cNvPicPr/>
          <p:nvPr/>
        </p:nvPicPr>
        <p:blipFill>
          <a:blip r:embed="rId1"/>
          <a:srcRect l="1114" t="21567" r="16012" b="11933"/>
          <a:stretch/>
        </p:blipFill>
        <p:spPr>
          <a:xfrm>
            <a:off x="2133720" y="2286000"/>
            <a:ext cx="3719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61c62"/>
                </a:solidFill>
                <a:latin typeface="Times New Roman"/>
              </a:rPr>
              <a:t>Medication &amp; Depression</a:t>
            </a:r>
            <a:endParaRPr b="0" lang="en-US" sz="4800" spc="-1" strike="noStrike">
              <a:solidFill>
                <a:srgbClr val="061c62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304920" y="1066680"/>
            <a:ext cx="7923960" cy="2209320"/>
            <a:chOff x="304920" y="1066680"/>
            <a:chExt cx="7923960" cy="2209320"/>
          </a:xfrm>
        </p:grpSpPr>
        <p:sp>
          <p:nvSpPr>
            <p:cNvPr id="131" name=""/>
            <p:cNvSpPr/>
            <p:nvPr/>
          </p:nvSpPr>
          <p:spPr>
            <a:xfrm>
              <a:off x="304920" y="1066680"/>
              <a:ext cx="64296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304920" y="1066680"/>
              <a:ext cx="7923960" cy="2209320"/>
              <a:chOff x="304920" y="1066680"/>
              <a:chExt cx="7923960" cy="2209320"/>
            </a:xfrm>
          </p:grpSpPr>
          <p:sp>
            <p:nvSpPr>
              <p:cNvPr id="133" name=""/>
              <p:cNvSpPr/>
              <p:nvPr/>
            </p:nvSpPr>
            <p:spPr>
              <a:xfrm>
                <a:off x="304920" y="1066680"/>
                <a:ext cx="57830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04920" y="1066680"/>
                <a:ext cx="7923960" cy="220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2d2525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2d2525"/>
                    </a:solidFill>
                    <a:latin typeface="Arial"/>
                    <a:ea typeface="Arial"/>
                  </a:rPr>
                  <a:t>Generally, all medicines for depression should be taken for 6 months to 1 year. </a:t>
                </a:r>
                <a:endParaRPr b="0" lang="en-US" sz="4000" spc="-1" strike="noStrike">
                  <a:solidFill>
                    <a:srgbClr val="2d2525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buClr>
                    <a:srgbClr val="2d2525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2d2525"/>
                    </a:solidFill>
                    <a:latin typeface="Arial"/>
                    <a:ea typeface="Arial"/>
                  </a:rPr>
                  <a:t>To prevent depression from coming back, people should keep taking their medicine for at least 4 to 9 months after they feel better.</a:t>
                </a:r>
                <a:br>
                  <a:rPr sz="4000"/>
                </a:br>
                <a:r>
                  <a:rPr b="0" lang="en-US" sz="2400" spc="-1" strike="noStrike">
                    <a:solidFill>
                      <a:srgbClr val="2d2525"/>
                    </a:solidFill>
                    <a:latin typeface="Times New Roman"/>
                  </a:rPr>
                  <a:t>                                </a:t>
                </a:r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n13m" descr="Depression prayer"/>
          <p:cNvPicPr/>
          <p:nvPr/>
        </p:nvPicPr>
        <p:blipFill>
          <a:blip r:embed="rId1"/>
          <a:stretch/>
        </p:blipFill>
        <p:spPr>
          <a:xfrm>
            <a:off x="228600" y="0"/>
            <a:ext cx="7391520" cy="68245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267080" y="-360"/>
            <a:ext cx="33530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Depression Prayer”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lawofthejunglem" descr="Law of the jungle"/>
          <p:cNvPicPr/>
          <p:nvPr/>
        </p:nvPicPr>
        <p:blipFill>
          <a:blip r:embed="rId1"/>
          <a:stretch/>
        </p:blipFill>
        <p:spPr>
          <a:xfrm>
            <a:off x="0" y="-22320"/>
            <a:ext cx="8001000" cy="688032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47960" y="304560"/>
            <a:ext cx="32763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Law of the Jungle”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61c62"/>
                </a:solidFill>
                <a:latin typeface="Times New Roman"/>
              </a:rPr>
              <a:t>Bipolar Disorder</a:t>
            </a:r>
            <a:endParaRPr b="0" lang="en-US" sz="60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d2525"/>
                </a:solidFill>
                <a:latin typeface="Times New Roman"/>
              </a:rPr>
              <a:t>Involves a cycle of mood changes from depression to wild elation and back again.</a:t>
            </a:r>
            <a:endParaRPr b="0" i="1" lang="en-US" sz="5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04920" y="5331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61c62"/>
                </a:solidFill>
                <a:latin typeface="Times New Roman"/>
              </a:rPr>
              <a:t>Depression</a:t>
            </a:r>
            <a:endParaRPr b="0" lang="en-US" sz="66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d2525"/>
                </a:solidFill>
                <a:latin typeface="Times New Roman"/>
              </a:rPr>
              <a:t>Typically involves feeling of helplessness, hopelessness, worthlessness, guilt &amp; great sadness.</a:t>
            </a:r>
            <a:endParaRPr b="0" i="1" lang="en-US" sz="4000" spc="-1" strike="noStrike">
              <a:solidFill>
                <a:srgbClr val="2d2525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-914400" y="2590920"/>
            <a:ext cx="10810800" cy="1616040"/>
            <a:chOff x="-914400" y="2590920"/>
            <a:chExt cx="10810800" cy="1616040"/>
          </a:xfrm>
        </p:grpSpPr>
        <p:sp>
          <p:nvSpPr>
            <p:cNvPr id="94" name=""/>
            <p:cNvSpPr/>
            <p:nvPr/>
          </p:nvSpPr>
          <p:spPr>
            <a:xfrm>
              <a:off x="-914400" y="2590920"/>
              <a:ext cx="63784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-914400" y="2590920"/>
              <a:ext cx="1081080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d2525"/>
                  </a:solidFill>
                  <a:latin typeface="Times New Roman"/>
                </a:rPr>
                <a:t>  </a:t>
              </a:r>
              <a:r>
                <a:rPr b="0" lang="en-US" sz="10000" spc="-1" strike="noStrike">
                  <a:solidFill>
                    <a:srgbClr val="2d2525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2d2525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        </a:t>
              </a:r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  <p:pic>
        <p:nvPicPr>
          <p:cNvPr id="96" name="header_2" descr=""/>
          <p:cNvPicPr/>
          <p:nvPr/>
        </p:nvPicPr>
        <p:blipFill>
          <a:blip r:embed="rId1"/>
          <a:stretch/>
        </p:blipFill>
        <p:spPr>
          <a:xfrm>
            <a:off x="914400" y="4800600"/>
            <a:ext cx="6378480" cy="160020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1012680" y="2873520"/>
            <a:ext cx="7118280" cy="1112760"/>
            <a:chOff x="1012680" y="2873520"/>
            <a:chExt cx="7118280" cy="1112760"/>
          </a:xfrm>
        </p:grpSpPr>
        <p:sp>
          <p:nvSpPr>
            <p:cNvPr id="98" name=""/>
            <p:cNvSpPr/>
            <p:nvPr/>
          </p:nvSpPr>
          <p:spPr>
            <a:xfrm>
              <a:off x="1012680" y="2873520"/>
              <a:ext cx="63784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1012680" y="2873520"/>
              <a:ext cx="7118280" cy="1112760"/>
              <a:chOff x="1012680" y="2873520"/>
              <a:chExt cx="7118280" cy="1112760"/>
            </a:xfrm>
          </p:grpSpPr>
          <p:sp>
            <p:nvSpPr>
              <p:cNvPr id="100" name=""/>
              <p:cNvSpPr/>
              <p:nvPr/>
            </p:nvSpPr>
            <p:spPr>
              <a:xfrm>
                <a:off x="1012680" y="2873520"/>
                <a:ext cx="57373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012680" y="2873520"/>
                <a:ext cx="7118280" cy="11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2d2525"/>
                    </a:solidFill>
                    <a:latin typeface="Times New Roman"/>
                  </a:rPr>
                  <a:t>  </a:t>
                </a:r>
                <a:r>
                  <a:rPr b="0" lang="en-US" sz="6700" spc="-1" strike="noStrike">
                    <a:solidFill>
                      <a:srgbClr val="2d2525"/>
                    </a:solidFill>
                    <a:latin typeface="Times New Roman"/>
                  </a:rPr>
                  <a:t> </a:t>
                </a:r>
                <a:r>
                  <a:rPr b="0" lang="en-US" sz="2400" spc="-1" strike="noStrike">
                    <a:solidFill>
                      <a:srgbClr val="2d2525"/>
                    </a:solidFill>
                    <a:latin typeface="Times New Roman"/>
                  </a:rPr>
                  <a:t>                    </a:t>
                </a:r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02" name="depression_a_medical_condition" descr=""/>
          <p:cNvPicPr/>
          <p:nvPr/>
        </p:nvPicPr>
        <p:blipFill>
          <a:blip r:embed="rId2"/>
          <a:stretch/>
        </p:blipFill>
        <p:spPr>
          <a:xfrm>
            <a:off x="6248520" y="0"/>
            <a:ext cx="32004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61c62"/>
                </a:solidFill>
                <a:latin typeface="Times New Roman"/>
              </a:rPr>
              <a:t>Major Depression</a:t>
            </a:r>
            <a:endParaRPr b="0" lang="en-US" sz="5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64771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1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d2525"/>
                </a:solidFill>
                <a:latin typeface="Times New Roman"/>
              </a:rPr>
              <a:t>Most common  psychological disorder affecting more than 100 million people </a:t>
            </a:r>
            <a:endParaRPr b="0" i="1" lang="en-US" sz="4400" spc="-1" strike="noStrike">
              <a:solidFill>
                <a:srgbClr val="2d2525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1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d2525"/>
                </a:solidFill>
                <a:latin typeface="Times New Roman"/>
              </a:rPr>
              <a:t>25% of all women; 12% of all men in the U.S. will experience depression.</a:t>
            </a:r>
            <a:endParaRPr b="0" i="1" lang="en-US" sz="4400" spc="-1" strike="noStrike">
              <a:solidFill>
                <a:srgbClr val="2d2525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382760" y="2371680"/>
            <a:ext cx="6378480" cy="2073240"/>
            <a:chOff x="1382760" y="2371680"/>
            <a:chExt cx="6378480" cy="2073240"/>
          </a:xfrm>
        </p:grpSpPr>
        <p:sp>
          <p:nvSpPr>
            <p:cNvPr id="106" name=""/>
            <p:cNvSpPr/>
            <p:nvPr/>
          </p:nvSpPr>
          <p:spPr>
            <a:xfrm>
              <a:off x="1382760" y="2371680"/>
              <a:ext cx="63784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1382760" y="2371680"/>
              <a:ext cx="5737320" cy="2073240"/>
              <a:chOff x="1382760" y="2371680"/>
              <a:chExt cx="5737320" cy="2073240"/>
            </a:xfrm>
          </p:grpSpPr>
          <p:sp>
            <p:nvSpPr>
              <p:cNvPr id="108" name=""/>
              <p:cNvSpPr/>
              <p:nvPr/>
            </p:nvSpPr>
            <p:spPr>
              <a:xfrm>
                <a:off x="1382760" y="2371680"/>
                <a:ext cx="57373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382760" y="2371680"/>
                <a:ext cx="5737320" cy="207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2d2525"/>
                    </a:solidFill>
                    <a:latin typeface="Times New Roman"/>
                  </a:rPr>
                  <a:t>  </a:t>
                </a:r>
                <a:r>
                  <a:rPr b="0" lang="en-US" sz="13000" spc="-1" strike="noStrike">
                    <a:solidFill>
                      <a:srgbClr val="2d2525"/>
                    </a:solidFill>
                    <a:latin typeface="Times New Roman"/>
                  </a:rPr>
                  <a:t> </a:t>
                </a:r>
                <a:r>
                  <a:rPr b="0" lang="en-US" sz="2400" spc="-1" strike="noStrike">
                    <a:solidFill>
                      <a:srgbClr val="2d2525"/>
                    </a:solidFill>
                    <a:latin typeface="Times New Roman"/>
                  </a:rPr>
                  <a:t>                            </a:t>
                </a:r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10" name="depression_1_outof_6" descr=""/>
          <p:cNvPicPr/>
          <p:nvPr/>
        </p:nvPicPr>
        <p:blipFill>
          <a:blip r:embed="rId1"/>
          <a:stretch/>
        </p:blipFill>
        <p:spPr>
          <a:xfrm>
            <a:off x="6324480" y="2666880"/>
            <a:ext cx="3276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61c62"/>
                </a:solidFill>
                <a:latin typeface="Times New Roman"/>
              </a:rPr>
              <a:t>DSM-IV diagnoses M.D. when 5 of the following symptoms are met: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84719"/>
                </a:solidFill>
                <a:latin typeface="Times New Roman"/>
              </a:rPr>
              <a:t>Persistent depressed mood for most of the day.</a:t>
            </a:r>
            <a:endParaRPr b="0" i="1" lang="en-US" sz="54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84719"/>
                </a:solidFill>
                <a:latin typeface="Times New Roman"/>
              </a:rPr>
              <a:t>Loss of interest or pleasure in all, or almost all activities.</a:t>
            </a:r>
            <a:endParaRPr b="0" i="1" lang="en-US" sz="54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5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609120"/>
            <a:ext cx="769608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d2525"/>
                </a:solidFill>
                <a:latin typeface="Times New Roman"/>
              </a:rPr>
              <a:t>Significant weight loss or gain due to changes in appetite</a:t>
            </a:r>
            <a:endParaRPr b="0" i="1" lang="en-US" sz="4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d2525"/>
                </a:solidFill>
                <a:latin typeface="Times New Roman"/>
              </a:rPr>
              <a:t>Speeding or slowing down of physical emotional reactions</a:t>
            </a:r>
            <a:endParaRPr b="0" i="1" lang="en-US" sz="4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d2525"/>
                </a:solidFill>
                <a:latin typeface="Times New Roman"/>
              </a:rPr>
              <a:t>Sleeping more/less than usual</a:t>
            </a:r>
            <a:endParaRPr b="0" i="1" lang="en-US" sz="4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-360" y="2282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2d2525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1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d2525"/>
                </a:solidFill>
                <a:latin typeface="Times New Roman"/>
              </a:rPr>
              <a:t>Fatigue or loss of energy</a:t>
            </a:r>
            <a:endParaRPr b="0" i="1" lang="en-US" sz="4800" spc="-1" strike="noStrike">
              <a:solidFill>
                <a:srgbClr val="2d2525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1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d2525"/>
                </a:solidFill>
                <a:latin typeface="Times New Roman"/>
              </a:rPr>
              <a:t>Feelings of worthlessness or unfounded guilt</a:t>
            </a:r>
            <a:endParaRPr b="0" i="1" lang="en-US" sz="4800" spc="-1" strike="noStrike">
              <a:solidFill>
                <a:srgbClr val="2d2525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1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d2525"/>
                </a:solidFill>
                <a:latin typeface="Times New Roman"/>
              </a:rPr>
              <a:t>Reduced ability to concentrate or make meaningful decisions</a:t>
            </a:r>
            <a:endParaRPr b="0" i="1" lang="en-US" sz="4800" spc="-1" strike="noStrike">
              <a:solidFill>
                <a:srgbClr val="2d2525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1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d2525"/>
                </a:solidFill>
                <a:latin typeface="Times New Roman"/>
              </a:rPr>
              <a:t>Recurrent thoughts of death or suicide</a:t>
            </a:r>
            <a:endParaRPr b="0" i="1" lang="en-US" sz="4800" spc="-1" strike="noStrike">
              <a:solidFill>
                <a:srgbClr val="2d2525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61c62"/>
                </a:solidFill>
                <a:latin typeface="Times New Roman"/>
              </a:rPr>
              <a:t>Other M.D. Symptoms Requirements:</a:t>
            </a:r>
            <a:endParaRPr b="0" lang="en-US" sz="5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d2525"/>
                </a:solidFill>
                <a:latin typeface="Times New Roman"/>
              </a:rPr>
              <a:t>Symptoms must be persistent </a:t>
            </a:r>
            <a:r>
              <a:rPr b="1" lang="en-US" sz="6000" spc="-1" strike="noStrike" u="sng">
                <a:solidFill>
                  <a:srgbClr val="2d2525"/>
                </a:solidFill>
                <a:uFillTx/>
                <a:latin typeface="Times New Roman"/>
              </a:rPr>
              <a:t>for two weeks</a:t>
            </a:r>
            <a:r>
              <a:rPr b="1" lang="en-US" sz="6000" spc="-1" strike="noStrike">
                <a:solidFill>
                  <a:srgbClr val="2d2525"/>
                </a:solidFill>
                <a:latin typeface="Times New Roman"/>
              </a:rPr>
              <a:t> and </a:t>
            </a:r>
            <a:r>
              <a:rPr b="1" lang="en-US" sz="6000" spc="-1" strike="noStrike" u="sng">
                <a:solidFill>
                  <a:srgbClr val="2d2525"/>
                </a:solidFill>
                <a:uFillTx/>
                <a:latin typeface="Times New Roman"/>
              </a:rPr>
              <a:t>nearly daily</a:t>
            </a:r>
            <a:r>
              <a:rPr b="1" lang="en-US" sz="6000" spc="-1" strike="noStrike">
                <a:solidFill>
                  <a:srgbClr val="2d2525"/>
                </a:solidFill>
                <a:latin typeface="Times New Roman"/>
              </a:rPr>
              <a:t>.</a:t>
            </a:r>
            <a:endParaRPr b="0" i="1" lang="en-US" sz="6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61c62"/>
                </a:solidFill>
                <a:latin typeface="Times New Roman"/>
              </a:rPr>
              <a:t>Causes of Depression</a:t>
            </a:r>
            <a:endParaRPr b="0" lang="en-US" sz="5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2d2525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2d2525"/>
                </a:solidFill>
                <a:latin typeface="Arial"/>
                <a:ea typeface="Arial"/>
              </a:rPr>
              <a:t>Depression is a medical condition. </a:t>
            </a:r>
            <a:endParaRPr b="0" i="1" lang="en-US" sz="4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d2525"/>
                </a:solidFill>
                <a:latin typeface="Arial"/>
                <a:ea typeface="Arial"/>
              </a:rPr>
              <a:t>Associated with an imbalance of a brain chemical called serotonin which alters the way we see the world and feel</a:t>
            </a:r>
            <a:r>
              <a:rPr b="1" lang="en-US" sz="4400" spc="-1" strike="noStrike">
                <a:solidFill>
                  <a:srgbClr val="2d2525"/>
                </a:solidFill>
                <a:latin typeface="Arial"/>
                <a:ea typeface="Arial"/>
              </a:rPr>
              <a:t>.</a:t>
            </a:r>
            <a:endParaRPr b="0" i="1" lang="en-US" sz="44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2d2525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820800" y="2577960"/>
            <a:ext cx="7502400" cy="1676520"/>
            <a:chOff x="820800" y="2577960"/>
            <a:chExt cx="7502400" cy="1676520"/>
          </a:xfrm>
        </p:grpSpPr>
        <p:sp>
          <p:nvSpPr>
            <p:cNvPr id="120" name=""/>
            <p:cNvSpPr/>
            <p:nvPr/>
          </p:nvSpPr>
          <p:spPr>
            <a:xfrm>
              <a:off x="820800" y="2577960"/>
              <a:ext cx="63784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820800" y="2577960"/>
              <a:ext cx="7502400" cy="1676520"/>
              <a:chOff x="820800" y="2577960"/>
              <a:chExt cx="7502400" cy="1676520"/>
            </a:xfrm>
          </p:grpSpPr>
          <p:sp>
            <p:nvSpPr>
              <p:cNvPr id="122" name=""/>
              <p:cNvSpPr/>
              <p:nvPr/>
            </p:nvSpPr>
            <p:spPr>
              <a:xfrm>
                <a:off x="820800" y="2577960"/>
                <a:ext cx="57373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20800" y="2577960"/>
                <a:ext cx="7502400" cy="167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2d2525"/>
                    </a:solidFill>
                    <a:latin typeface="Times New Roman"/>
                  </a:rPr>
                  <a:t>  </a:t>
                </a:r>
                <a:r>
                  <a:rPr b="0" lang="en-US" sz="10400" spc="-1" strike="noStrike">
                    <a:solidFill>
                      <a:srgbClr val="2d2525"/>
                    </a:solidFill>
                    <a:latin typeface="Times New Roman"/>
                  </a:rPr>
                  <a:t> </a:t>
                </a:r>
                <a:r>
                  <a:rPr b="0" lang="en-US" sz="2400" spc="-1" strike="noStrike">
                    <a:solidFill>
                      <a:srgbClr val="2d2525"/>
                    </a:solidFill>
                    <a:latin typeface="Times New Roman"/>
                  </a:rPr>
                  <a:t>                          </a:t>
                </a:r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4" name="depression_dot_w_bug" descr=""/>
          <p:cNvPicPr/>
          <p:nvPr/>
        </p:nvPicPr>
        <p:blipFill>
          <a:blip r:embed="rId1"/>
          <a:stretch/>
        </p:blipFill>
        <p:spPr>
          <a:xfrm>
            <a:off x="6095880" y="2209680"/>
            <a:ext cx="259092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381240" y="-3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61c62"/>
                </a:solidFill>
                <a:latin typeface="Times New Roman"/>
              </a:rPr>
              <a:t>Treatment of Depression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41907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d2525"/>
                </a:solidFill>
                <a:latin typeface="Times New Roman"/>
              </a:rPr>
              <a:t>Use of anti-depressants and psychotherapy are recommended.</a:t>
            </a:r>
            <a:endParaRPr b="0" i="1" lang="en-US" sz="4000" spc="-1" strike="noStrike">
              <a:solidFill>
                <a:srgbClr val="2d2525"/>
              </a:solidFill>
              <a:latin typeface="Times New Roman"/>
            </a:endParaRPr>
          </a:p>
        </p:txBody>
      </p:sp>
      <p:pic>
        <p:nvPicPr>
          <p:cNvPr id="127" name="depression_2_dot_w_ladybug1" descr=""/>
          <p:cNvPicPr/>
          <p:nvPr/>
        </p:nvPicPr>
        <p:blipFill>
          <a:blip r:embed="rId1"/>
          <a:stretch/>
        </p:blipFill>
        <p:spPr>
          <a:xfrm>
            <a:off x="4267080" y="1219320"/>
            <a:ext cx="4648320" cy="4327560"/>
          </a:xfrm>
          <a:prstGeom prst="rect">
            <a:avLst/>
          </a:prstGeom>
          <a:ln w="0">
            <a:noFill/>
          </a:ln>
        </p:spPr>
      </p:pic>
      <p:pic>
        <p:nvPicPr>
          <p:cNvPr id="128" name="zoloft_logo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9480" y="4648320"/>
            <a:ext cx="335304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3T12:47:13Z</dcterms:created>
  <dc:creator>spulka</dc:creator>
  <dc:description/>
  <dc:language>en-US</dc:language>
  <cp:lastModifiedBy>spulka</cp:lastModifiedBy>
  <dcterms:modified xsi:type="dcterms:W3CDTF">2004-03-29T11:55:34Z</dcterms:modified>
  <cp:revision>4</cp:revision>
  <dc:subject/>
  <dc:title>Mood Disorders</dc:title>
</cp:coreProperties>
</file>